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FD24-F104-4E8E-91B1-0D34F751D76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4161240"/>
            <a:ext cx="838188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903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2000" y="1447920"/>
            <a:ext cx="40903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61240"/>
            <a:ext cx="40903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2000" y="4161240"/>
            <a:ext cx="40903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985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90760" y="1447920"/>
            <a:ext cx="26985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4680" y="1447920"/>
            <a:ext cx="26985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4161240"/>
            <a:ext cx="26985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90760" y="4161240"/>
            <a:ext cx="26985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24680" y="4161240"/>
            <a:ext cx="26985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381880" cy="51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4b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9032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447920"/>
            <a:ext cx="409032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3818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4b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903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447920"/>
            <a:ext cx="409032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161240"/>
            <a:ext cx="40903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381880" cy="51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4b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9032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447920"/>
            <a:ext cx="40903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4161240"/>
            <a:ext cx="40903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903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447920"/>
            <a:ext cx="40903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161240"/>
            <a:ext cx="838188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161240"/>
            <a:ext cx="838188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903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447920"/>
            <a:ext cx="40903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161240"/>
            <a:ext cx="40903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4161240"/>
            <a:ext cx="40903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985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447920"/>
            <a:ext cx="26985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447920"/>
            <a:ext cx="26985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161240"/>
            <a:ext cx="26985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4161240"/>
            <a:ext cx="26985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4161240"/>
            <a:ext cx="26985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9032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2000" y="1447920"/>
            <a:ext cx="409032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3818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4b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903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2000" y="1447920"/>
            <a:ext cx="409032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4161240"/>
            <a:ext cx="40903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9032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2000" y="1447920"/>
            <a:ext cx="40903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2000" y="4161240"/>
            <a:ext cx="40903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903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2000" y="1447920"/>
            <a:ext cx="40903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161240"/>
            <a:ext cx="838188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55760" y="1455840"/>
            <a:ext cx="8389800" cy="5195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405480" y="6675480"/>
            <a:ext cx="275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Copyright © 2004  South-Western/Thomson Lear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38188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8610480" y="0"/>
            <a:ext cx="533520" cy="6858000"/>
          </a:xfrm>
          <a:prstGeom prst="rect">
            <a:avLst/>
          </a:prstGeom>
          <a:solidFill>
            <a:srgbClr val="411d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7696080" y="2514600"/>
            <a:ext cx="1067040" cy="182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15000" y="28951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9080" y="6553080"/>
            <a:ext cx="275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11d72"/>
                </a:solidFill>
                <a:latin typeface="Arial"/>
              </a:rPr>
              <a:t>Copyright © 2004  South-Western/Thomson Lear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87360" y="304920"/>
          <a:ext cx="5257800" cy="31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7360" y="304920"/>
                    <a:ext cx="5257800" cy="312408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4b9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0094b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c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20840" y="4343400"/>
            <a:ext cx="8291520" cy="1600200"/>
          </a:xfrm>
          <a:prstGeom prst="rect">
            <a:avLst/>
          </a:prstGeom>
          <a:solidFill>
            <a:srgbClr val="ffef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46214"/>
          <a:stretch/>
        </p:blipFill>
        <p:spPr>
          <a:xfrm>
            <a:off x="420840" y="419040"/>
            <a:ext cx="8291520" cy="3540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57240" y="4362480"/>
            <a:ext cx="901044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werPoint® Lectur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accompan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iples of Economics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E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. Gregory Manki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pared by Mark P. Karscig, Central Missouri State Universit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538360" y="6014880"/>
            <a:ext cx="40546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EN PRINCIPLES OF ECONOMICS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rces and trends that affect  how the economy as a whole work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ndard of living depends on a country’s prod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ces rise when the government prints too much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ety faces a short-run tradeoff between inflation and unemploy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3" dur="1" fill="hold"/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4" dur="1" fill="hold"/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5" dur="1" fill="hold"/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6" dur="1" fill="hold"/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124080" y="3124080"/>
            <a:ext cx="2971800" cy="21225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 #1: People Face Tradeoff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no such thing as a free lunch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01720" y="5060880"/>
            <a:ext cx="76201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076"/>
                </a:solidFill>
                <a:latin typeface="Arial"/>
              </a:rPr>
              <a:t>Making decisions requires trading </a:t>
            </a:r>
            <a:br>
              <a:rPr sz="3200"/>
            </a:br>
            <a:r>
              <a:rPr b="0" lang="en-US" sz="3200" spc="-1" strike="noStrike">
                <a:solidFill>
                  <a:srgbClr val="494076"/>
                </a:solidFill>
                <a:latin typeface="Arial"/>
              </a:rPr>
              <a:t>off one goal against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 #1: People Face Tradeoff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et one thing, we usually have to give up another 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ns v. bu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od v. clo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isure time v.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cy v.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 #1: People Face Tradeoff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iciency v. Eq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5a9a6"/>
                </a:solidFill>
                <a:latin typeface="Times New Roman"/>
              </a:rPr>
              <a:t>Effici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ans society gets the most that it can from its scarce resour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5a9a6"/>
                </a:solidFill>
                <a:latin typeface="Times New Roman"/>
              </a:rPr>
              <a:t>Equ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ans the benefits of those resources are distributed fairly among the members of soci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4" dur="1" fill="hold"/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5" dur="1" fill="hold"/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6" dur="1" fill="hold"/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 #2: The Cost of Something Is What You Give Up to Get It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8188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s require comparing costs and benefits of alternati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ther to go to college or to wo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ther to study or go out on a da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ther to go to class or sleep i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25a9a6"/>
                </a:solidFill>
                <a:latin typeface="Times New Roman"/>
              </a:rPr>
              <a:t>opportunity c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n item is what you give up to obtain that i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8520" y="3224160"/>
            <a:ext cx="3103560" cy="31240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 #2: The Cost of Something Is What You Give Up to Get It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1640" y="1752480"/>
            <a:ext cx="426708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Laker basketball star Kobe Bryant chose to skip college and go straight from high school to the pros where he has earned millions of doll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143000" y="1600200"/>
            <a:ext cx="235584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14400" y="4267080"/>
            <a:ext cx="70102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076"/>
                </a:solidFill>
                <a:latin typeface="Arial"/>
              </a:rPr>
              <a:t>People make decisions by comparing costs and benefits at the marg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 #3: Rational People Think at the Margi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38188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5a9a6"/>
                </a:solidFill>
                <a:latin typeface="Times New Roman"/>
              </a:rPr>
              <a:t>Marginal chang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small, incremental adjustments to an existing plan of 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 #4: People Respond to Incentive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ginal changes in costs or benefits motivate people to resp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cision to choose one alternative over another occurs when that alternative’s marginal benefits exceed its marginal cost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4" dur="1" fill="hold"/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 #5: Trade Can Make Everyone Better Off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gain from their ability to trade with one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etition results in gains from tra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e allows people to specialize in what they do b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6" dur="1" fill="hold"/>
                                  <p:tgtEl>
                                    <p:spTgt spid="13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 #6: Markets Are Usually a Good Way to Organize Economic Activity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25a9a6"/>
                </a:solidFill>
                <a:latin typeface="Times New Roman"/>
              </a:rPr>
              <a:t>market econom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 economy that allocates resources through the decentralized decisions of many firms and households as they interact in markets for goods and serv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useholds decide what to buy and who to work f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ms decide who to hire and what to produc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2" dur="1" fill="hold"/>
                                  <p:tgtEl>
                                    <p:spTgt spid="1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3" dur="1" fill="hold"/>
                                  <p:tgtEl>
                                    <p:spTgt spid="1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4" dur="1" fill="hold"/>
                                  <p:tgtEl>
                                    <p:spTgt spid="13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c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122480" y="2641680"/>
          <a:ext cx="6703920" cy="39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2480" y="2641680"/>
                    <a:ext cx="6703920" cy="39830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 rot="5400000">
            <a:off x="4305240" y="-2176560"/>
            <a:ext cx="533520" cy="9144000"/>
          </a:xfrm>
          <a:prstGeom prst="rect">
            <a:avLst/>
          </a:prstGeom>
          <a:solidFill>
            <a:srgbClr val="411d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-285840"/>
            <a:ext cx="9144000" cy="2405160"/>
          </a:xfrm>
          <a:prstGeom prst="rect">
            <a:avLst/>
          </a:prstGeom>
          <a:solidFill>
            <a:srgbClr val="ffe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4029120" y="1096560"/>
            <a:ext cx="1067040" cy="1828800"/>
          </a:xfrm>
          <a:prstGeom prst="ellipse">
            <a:avLst/>
          </a:prstGeom>
          <a:solidFill>
            <a:srgbClr val="ffe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680" y="712800"/>
            <a:ext cx="90108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4b9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 #6: Markets Are Usually a Good Way to Organize Economic Activity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98320"/>
            <a:ext cx="838188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m Smith made the observation that households and firms interacting in markets act as if guided by an “invisible hand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households and firms look at prices when deciding what to buy and sell, they unknowingly take into account the social costs of their 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result, prices guide decision makers to reach outcomes that tend to maximize the welfare of society as a wh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9" dur="1" fill="hold"/>
                                  <p:tgtEl>
                                    <p:spTgt spid="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300" dur="1" fill="hold"/>
                                  <p:tgtEl>
                                    <p:spTgt spid="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301" dur="1" fill="hold"/>
                                  <p:tgtEl>
                                    <p:spTgt spid="14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 #7: Governments Can Sometimes Improve Market Outcome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1440"/>
            <a:ext cx="838188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5a9a6"/>
                </a:solidFill>
                <a:latin typeface="Times New Roman"/>
              </a:rPr>
              <a:t>Market fail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ccurs when the market fails to allocate resources efficien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market fails (breaks down) government can intervene to promote efficiency and equ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 #7: Governments Can Sometimes Improve Market Outcome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444320"/>
            <a:ext cx="838188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 failure may be caused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25a9a6"/>
                </a:solidFill>
                <a:latin typeface="Times New Roman"/>
              </a:rPr>
              <a:t>externa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 is the impact of one person or firm’s actions on the well-being of a bystan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5a9a6"/>
                </a:solidFill>
                <a:latin typeface="Times New Roman"/>
              </a:rPr>
              <a:t>market pow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 is the ability of a single person or firm to unduly influence market pric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 #8: The Standard of Living Depends on a Country’s Productio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of living may be measured in different wa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omparing personal inco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omparing the total market value of a nation’s prod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 #8: The Standard of Living Depends on a Country’s Productio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455840"/>
            <a:ext cx="838188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ost all variations in living standards are explained by differences in countries’ productiv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25a9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5a9a6"/>
                </a:solidFill>
                <a:latin typeface="Times New Roman"/>
              </a:rPr>
              <a:t>Productiv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amount of goods and services produced from each hour of a worker’s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 #8: The Standard of Living Depends on a Country’s Productio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38188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of living may be measured in different wa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omparing personal inco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omparing the total market value of a nation’s prod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 #9: Prices Rise When the Government Prints Too Much Money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lation is an increase in the overall level of prices in the econom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cause of inflation is the growth in the quantity of mon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government creates large quantities of money, the value of the money fa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 #10: Society Faces a Short-run Tradeoff Between Inflation and Unemployment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hillips Curve illustrates the tradeoff between inflation and unemploy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la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a short-run tradeoff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individuals make decisions, they face tradeoffs among alternative go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st of any action is measured in terms of foregone opportun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ional people make decisions by comparing marginal costs and marginal benefi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change their behavior in response to the incentives they 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3040" y="1108080"/>
            <a:ext cx="82929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9" dur="1" fill="hold"/>
                                  <p:tgtEl>
                                    <p:spTgt spid="1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e can be mutually benefi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s are usually a good way of coordinating trade among peo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vernment can potentially improve market outcomes if there is some market failure or if the market outcome is inequi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3040" y="1108080"/>
            <a:ext cx="82929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0" dur="1" fill="hold"/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5000" y="28951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80520" y="3809520"/>
            <a:ext cx="53341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4b9"/>
                </a:solidFill>
                <a:latin typeface="Arial"/>
              </a:rPr>
              <a:t>Ten Principles of Economics</a:t>
            </a:r>
            <a:endParaRPr b="1" lang="en-US" sz="4000" spc="-1" strike="noStrike">
              <a:solidFill>
                <a:srgbClr val="0094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ivity is the ultimate source of living stand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ey growth is the ultimate source of inf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ty faces a short-run tradeoff between inflation and unemploy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3040" y="1108080"/>
            <a:ext cx="82929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1" dur="1" fill="hold"/>
                                  <p:tgtEl>
                                    <p:spTgt spid="1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Economy. . .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. . The wor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conom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es from a Greek word for “one who manages a household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EN PRINCIPLES OF ECONOMIC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ousehold and an econom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e many decisio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will wo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goods and how many of them should be produc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resources should be used in produc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what price should the goods be so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" dur="1" fill="hold"/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09a0e"/>
                                </p:to>
                              </p:animClr>
                              <p:animClr clrSpc="rgb">
                                <p:cBhvr>
                                  <p:cTn id="30" dur="1" fill="hold"/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09a0e"/>
                                </p:to>
                              </p:animClr>
                              <p:animClr clrSpc="rgb">
                                <p:cBhvr>
                                  <p:cTn id="31" dur="1" fill="hold"/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09a0e"/>
                                </p:to>
                              </p:animClr>
                              <p:animClr clrSpc="rgb">
                                <p:cBhvr>
                                  <p:cTn id="32" dur="1" fill="hold"/>
                                  <p:tgtEl>
                                    <p:spTgt spid="1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09a0e"/>
                                </p:to>
                              </p:animClr>
                              <p:animClr clrSpc="rgb">
                                <p:cBhvr>
                                  <p:cTn id="33" dur="1" fill="hold"/>
                                  <p:tgtEl>
                                    <p:spTgt spid="10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09a0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EN PRINCIPLES OF ECONOMIC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25680"/>
            <a:ext cx="8381880" cy="51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ty and Scarce Resourc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nagement of  society’s resources is important because resources are scar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r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means that society has limited resources and therefore cannot produce all the goods and services people wish to ha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EN PRINCIPLES OF ECONOMIC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conomi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study of how society manages its scarce resource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EN PRINCIPLES OF ECONOMICS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people make deci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face tradeoff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st of something is what you give up to get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nal people think at the marg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respond to incent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8" dur="1" fill="hold"/>
                                  <p:tgtEl>
                                    <p:spTgt spid="1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9" dur="1" fill="hold"/>
                                  <p:tgtEl>
                                    <p:spTgt spid="1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70" dur="1" fill="hold"/>
                                  <p:tgtEl>
                                    <p:spTgt spid="11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71" dur="1" fill="hold"/>
                                  <p:tgtEl>
                                    <p:spTgt spid="11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72" dur="1" fill="hold"/>
                                  <p:tgtEl>
                                    <p:spTgt spid="11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EN PRINCIPLES OF ECONOMICS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people interact with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e can make everyone better of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s are usually a good way to organize economic ac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vernments can sometimes improve economic outco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2" dur="1" fill="hold"/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3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4" dur="1" fill="hold"/>
                                  <p:tgtEl>
                                    <p:spTgt spid="1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2T00:04:04Z</dcterms:created>
  <dc:creator>Mark P. Karscig</dc:creator>
  <dc:description/>
  <cp:keywords>price elasticity</cp:keywords>
  <dc:language>en-US</dc:language>
  <cp:lastModifiedBy>Tasawar</cp:lastModifiedBy>
  <cp:lastPrinted>2003-01-26T00:25:56Z</cp:lastPrinted>
  <dcterms:modified xsi:type="dcterms:W3CDTF">2008-11-10T09:16:59Z</dcterms:modified>
  <cp:revision>382</cp:revision>
  <dc:subject>Ten Principles of Economics</dc:subject>
  <dc:title>Chapter 1</dc:title>
</cp:coreProperties>
</file>